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CD7-FDCA-48ED-8380-7DADDEBC03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8A4-F6AA-4F2F-BC30-93BEB6E81A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90D7-58A3-4F9B-8194-A29F11D443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5A51-5CBE-4CE4-BB16-AFCEB52159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FD28-B2B4-44EC-9C36-A5C7319D4C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19B0-D052-413A-9118-E3B7D32084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E176-3E20-48C1-9B51-3C93F1CF84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DB27-70F5-4CFD-87DC-6F7EFC81FC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A379-5D5C-44E8-AE6B-E0473CCCE7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5DDD-E69B-4C3B-80B4-D3687FF705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A5AB-4A78-4014-9D76-BD8CB44A03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834-A4D4-4D20-B4D1-97B18723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D4E-B803-46B2-9F25-6F70C7A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8E4-6C80-4B1F-93F3-C1180F39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C25-46ED-4CD8-AD08-603B793A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1E2-9BAB-43FD-90F6-CC5311DF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8C3-5DC3-4628-8B36-F535BE6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87D-7901-4836-B41D-0B0EE66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925-DB7D-4339-8828-B1E4B6FF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50B-61B6-4B5C-97AD-61F961D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F08-A627-4432-8460-F3240498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E78-6093-428B-ACAA-8E539409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77E-D86F-40D0-BE29-F6B0B30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16B1-3ECD-4847-8291-7ABD0EC17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hyperlink" Target="http://www.ageka.fr/isolation/laine_verrep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1052640"/>
            <a:ext cx="7808760" cy="1908000"/>
          </a:xfrm>
          <a:prstGeom prst="rect">
            <a:avLst/>
          </a:prstGeom>
          <a:ln w="0">
            <a:noFill/>
          </a:ln>
        </p:spPr>
      </p:pic>
      <p:pic>
        <p:nvPicPr>
          <p:cNvPr id="49" name="Titre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860640"/>
            <a:ext cx="827712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aque de plâ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57120" y="1600200"/>
          <a:ext cx="8501040" cy="1685880"/>
        </p:xfrm>
        <a:graphic>
          <a:graphicData uri="http://schemas.openxmlformats.org/drawingml/2006/table">
            <a:tbl>
              <a:tblPr/>
              <a:tblGrid>
                <a:gridCol w="1265400"/>
                <a:gridCol w="1217520"/>
                <a:gridCol w="2446200"/>
                <a:gridCol w="1714680"/>
                <a:gridCol w="1857240"/>
              </a:tblGrid>
              <a:tr h="693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2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ériau de finition intérieur, utilisé pour doublage et clo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ble à l’humid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le m² et 10€ par m² pour la 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2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oublage de mur, création de pièce par montage de clo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8"/>
          <p:cNvSpPr/>
          <p:nvPr/>
        </p:nvSpPr>
        <p:spPr>
          <a:xfrm>
            <a:off x="500040" y="342900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les sont constituées de plâtre moulé entre deux couches de car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renoveo.com/upload/152.JPG"/>
          <p:cNvPicPr/>
          <p:nvPr/>
        </p:nvPicPr>
        <p:blipFill>
          <a:blip r:embed="rId2"/>
          <a:stretch/>
        </p:blipFill>
        <p:spPr>
          <a:xfrm>
            <a:off x="571680" y="214200"/>
            <a:ext cx="181116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re 1" descr=""/>
          <p:cNvPicPr/>
          <p:nvPr/>
        </p:nvPicPr>
        <p:blipFill>
          <a:blip r:embed="rId1"/>
          <a:stretch/>
        </p:blipFill>
        <p:spPr>
          <a:xfrm>
            <a:off x="701640" y="73080"/>
            <a:ext cx="779616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8840" y="2857320"/>
            <a:ext cx="6400800" cy="757080"/>
          </a:xfrm>
          <a:prstGeom prst="rect">
            <a:avLst/>
          </a:prstGeom>
          <a:solidFill>
            <a:srgbClr val="dce6f2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Laine de ve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ous-titre 2"/>
          <p:cNvSpPr/>
          <p:nvPr/>
        </p:nvSpPr>
        <p:spPr>
          <a:xfrm>
            <a:off x="1428840" y="4786200"/>
            <a:ext cx="6400800" cy="757440"/>
          </a:xfrm>
          <a:prstGeom prst="rect">
            <a:avLst/>
          </a:prstGeom>
          <a:solidFill>
            <a:srgbClr val="dce6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Liè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pe1\Local Settings\Temporary Internet Files\Content.IE5\VCLHZTSJ\MCj04398070000[1]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54" name="Sous-titre 2"/>
          <p:cNvSpPr/>
          <p:nvPr/>
        </p:nvSpPr>
        <p:spPr>
          <a:xfrm>
            <a:off x="1428840" y="3786120"/>
            <a:ext cx="6400800" cy="757440"/>
          </a:xfrm>
          <a:prstGeom prst="rect">
            <a:avLst/>
          </a:prstGeom>
          <a:solidFill>
            <a:srgbClr val="dce6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Mousse acous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ine de ver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7972560" cy="1828800"/>
        </p:xfrm>
        <a:graphic>
          <a:graphicData uri="http://schemas.openxmlformats.org/drawingml/2006/table">
            <a:tbl>
              <a:tblPr/>
              <a:tblGrid>
                <a:gridCol w="1257480"/>
                <a:gridCol w="1285560"/>
                <a:gridCol w="1285920"/>
                <a:gridCol w="2928960"/>
                <a:gridCol w="12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illeur rapport qualité/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on désagréable.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ilement recyc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llement incombust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€  le m² pour 10 cm 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ZoneTexte 5"/>
          <p:cNvSpPr/>
          <p:nvPr/>
        </p:nvSpPr>
        <p:spPr>
          <a:xfrm>
            <a:off x="500040" y="4572000"/>
            <a:ext cx="7929720" cy="642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tout : toiture, combles, sols, dalle flottante, murs (sauf s'il y a de la pression/ du po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ous-titre 2"/>
          <p:cNvSpPr/>
          <p:nvPr/>
        </p:nvSpPr>
        <p:spPr>
          <a:xfrm>
            <a:off x="500040" y="3643200"/>
            <a:ext cx="7929720" cy="714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Documents and Settings\pe1\Local Settings\Temporary Internet Files\Content.IE5\VCLHZTSJ\MCj0439807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Afficher l'image en taille réel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285840"/>
            <a:ext cx="178596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28560" y="274680"/>
            <a:ext cx="62578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ousse acoustique alvéo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257480"/>
                <a:gridCol w="1285560"/>
                <a:gridCol w="2643480"/>
                <a:gridCol w="1571400"/>
                <a:gridCol w="1214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e facile car auto-adhésif, très bonne tenue dans le te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12€ le m² épaisseur 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" name="ZoneTexte 5"/>
          <p:cNvSpPr/>
          <p:nvPr/>
        </p:nvSpPr>
        <p:spPr>
          <a:xfrm>
            <a:off x="500040" y="4572000"/>
            <a:ext cx="7929720" cy="3682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tout : Planchers flottants, murs, sols, to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ous-titre 2"/>
          <p:cNvSpPr/>
          <p:nvPr/>
        </p:nvSpPr>
        <p:spPr>
          <a:xfrm>
            <a:off x="500040" y="3643200"/>
            <a:ext cx="7929720" cy="714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pe1\Local Settings\Temporary Internet Files\Content.IE5\VCLHZTSJ\MCj0439807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714240" y="285840"/>
            <a:ext cx="1785960" cy="11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iè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185840"/>
                <a:gridCol w="1143000"/>
                <a:gridCol w="2857680"/>
                <a:gridCol w="1571400"/>
                <a:gridCol w="1214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Léger.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lo. Insensible à l’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30€ le m² pour 10cm 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ZoneTexte 5"/>
          <p:cNvSpPr/>
          <p:nvPr/>
        </p:nvSpPr>
        <p:spPr>
          <a:xfrm>
            <a:off x="500040" y="4572000"/>
            <a:ext cx="7929720" cy="3682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tout : toiture, combles, sols, dalle flottante, m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ous-titre 2"/>
          <p:cNvSpPr/>
          <p:nvPr/>
        </p:nvSpPr>
        <p:spPr>
          <a:xfrm>
            <a:off x="500040" y="3643200"/>
            <a:ext cx="7929720" cy="714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Documents and Settings\pe1\Local Settings\Temporary Internet Files\Content.IE5\VCLHZTSJ\MCj0439807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Le Liège"/>
          <p:cNvPicPr/>
          <p:nvPr/>
        </p:nvPicPr>
        <p:blipFill>
          <a:blip r:embed="rId3"/>
          <a:stretch/>
        </p:blipFill>
        <p:spPr>
          <a:xfrm>
            <a:off x="1214280" y="142920"/>
            <a:ext cx="857520" cy="13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re 1" descr=""/>
          <p:cNvPicPr/>
          <p:nvPr/>
        </p:nvPicPr>
        <p:blipFill>
          <a:blip r:embed="rId1"/>
          <a:stretch/>
        </p:blipFill>
        <p:spPr>
          <a:xfrm>
            <a:off x="480960" y="347760"/>
            <a:ext cx="8255160" cy="1609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57200" y="2285640"/>
            <a:ext cx="6400800" cy="75708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gglo bé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ous-titre 2"/>
          <p:cNvSpPr/>
          <p:nvPr/>
        </p:nvSpPr>
        <p:spPr>
          <a:xfrm>
            <a:off x="1357200" y="3214800"/>
            <a:ext cx="6400800" cy="75708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Béton arm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ous-titre 2"/>
          <p:cNvSpPr/>
          <p:nvPr/>
        </p:nvSpPr>
        <p:spPr>
          <a:xfrm>
            <a:off x="1357200" y="4143240"/>
            <a:ext cx="6400800" cy="75744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Béton cellul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ous-titre 2"/>
          <p:cNvSpPr/>
          <p:nvPr/>
        </p:nvSpPr>
        <p:spPr>
          <a:xfrm>
            <a:off x="1357200" y="5087880"/>
            <a:ext cx="6400800" cy="75744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laque de plâ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Documents and Settings\pe1\Local Settings\Temporary Internet Files\Content.IE5\VCLHZTSJ\MCj04398070000[1].png"/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gglo bé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185840"/>
                <a:gridCol w="1143000"/>
                <a:gridCol w="2714760"/>
                <a:gridCol w="1643040"/>
                <a:gridCol w="1285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Mise en œuvre facile. Très bon rapport qualité/pr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le m² en 20 cm d’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1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ur extérieur, mur intérieur. Porteur à partir de 15 cm d’épaisse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mara-materiaux.com/images/cache/moellon_100x91.jpg"/>
          <p:cNvPicPr/>
          <p:nvPr/>
        </p:nvPicPr>
        <p:blipFill>
          <a:blip r:embed="rId2"/>
          <a:stretch/>
        </p:blipFill>
        <p:spPr>
          <a:xfrm>
            <a:off x="893880" y="214200"/>
            <a:ext cx="1463400" cy="13320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8"/>
          <p:cNvSpPr/>
          <p:nvPr/>
        </p:nvSpPr>
        <p:spPr>
          <a:xfrm>
            <a:off x="500040" y="3214800"/>
            <a:ext cx="7929720" cy="91692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'est un bloc de béton moulé, gris, en forme de parallélépipède creux. Il est composé de 87% de granulats (pierres, graviers, sables), de 7% de ciment (calcaire et argile) et de 6% d'e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éton ar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185840"/>
                <a:gridCol w="1143000"/>
                <a:gridCol w="2714760"/>
                <a:gridCol w="1571400"/>
                <a:gridCol w="1357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Mise en œuvre facile. Très bon rapport qualité/pr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 le m² en 15 cm d’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ur extérieur, mur in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8"/>
          <p:cNvSpPr/>
          <p:nvPr/>
        </p:nvSpPr>
        <p:spPr>
          <a:xfrm>
            <a:off x="500040" y="3214800"/>
            <a:ext cx="7929720" cy="91692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béton est un mélange de ciment, de granulats (sable, gravier, pierrailles) et de l'eau. Le béton armé peut être défini comme l'enrobage par du béton, d’aciers appelés arm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9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58436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éton cellu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57120" y="1528920"/>
          <a:ext cx="8215560" cy="1874520"/>
        </p:xfrm>
        <a:graphic>
          <a:graphicData uri="http://schemas.openxmlformats.org/drawingml/2006/table">
            <a:tbl>
              <a:tblPr/>
              <a:tblGrid>
                <a:gridCol w="1268640"/>
                <a:gridCol w="1152360"/>
                <a:gridCol w="2208240"/>
                <a:gridCol w="1622520"/>
                <a:gridCol w="196380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Produit nature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€ le m² en 7 cm d'épaisseur et 15€ par m² pour la 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ur extérieur, mur in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8"/>
          <p:cNvSpPr/>
          <p:nvPr/>
        </p:nvSpPr>
        <p:spPr>
          <a:xfrm>
            <a:off x="500040" y="3500280"/>
            <a:ext cx="7929720" cy="642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abriqué en mélangeant de l'eau, du sable, du ciment, de la poudre d'aluminium ou de la pâte d'aluminium, et de l'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xella.fr/images/fra/rd_fr/Bloc_ok_9.jpg"/>
          <p:cNvPicPr/>
          <p:nvPr/>
        </p:nvPicPr>
        <p:blipFill>
          <a:blip r:embed="rId2"/>
          <a:stretch/>
        </p:blipFill>
        <p:spPr>
          <a:xfrm>
            <a:off x="500040" y="142920"/>
            <a:ext cx="19288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9:32:11Z</dcterms:created>
  <dc:creator/>
  <dc:description/>
  <dc:language>en-US</dc:language>
  <cp:lastModifiedBy>Dominique Sauzeau</cp:lastModifiedBy>
  <dcterms:modified xsi:type="dcterms:W3CDTF">2013-10-02T09:10:27Z</dcterms:modified>
  <cp:revision>67</cp:revision>
  <dc:subject/>
  <dc:title>Les matériaux isolants phoniques</dc:title>
</cp:coreProperties>
</file>